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33174"/>
        <c:axId val="18739101"/>
      </c:barChart>
      <c:catAx>
        <c:axId val="15533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39101"/>
        <c:crosses val="autoZero"/>
        <c:auto val="1"/>
        <c:lblAlgn val="ctr"/>
        <c:lblOffset val="100"/>
        <c:noMultiLvlLbl val="0"/>
      </c:catAx>
      <c:valAx>
        <c:axId val="18739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33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A74-7FB4-43F3-8B46-A4497F92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76F-4E94-453D-AA46-517093A3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A05-A1B0-4C38-8560-6D0CCBE6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B5E-EBBF-4F36-86A5-C626BB7E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52A-690F-4C97-8448-B019C6C9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CAB-B991-461F-A50A-404CEC27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969-4FAD-4A48-B5F4-648BFE59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295-A8C0-4A0C-90CE-E968FC02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985-FC04-40EC-B567-9870A41E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5DD-966A-4300-839B-F1B9E6A3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8E3-BF06-4821-82F0-92C94B3D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0F6-0372-46A6-A2CC-3648FC8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0C86D-5712-4A8B-B2FD-83207C18B7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