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40730"/>
        <c:axId val="84127532"/>
      </c:barChart>
      <c:catAx>
        <c:axId val="97540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27532"/>
        <c:crosses val="autoZero"/>
        <c:auto val="1"/>
        <c:lblAlgn val="ctr"/>
        <c:lblOffset val="100"/>
        <c:noMultiLvlLbl val="0"/>
      </c:catAx>
      <c:valAx>
        <c:axId val="84127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40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C1A-9FAC-4471-ACDC-DB1A5AF0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DED-B97D-4868-8F23-5117E3D3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B18-DD3F-42AA-9071-D1A69CE9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506-96C6-41F4-B4DD-2B067876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F33-1D86-49C3-8AF1-F667ED47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E06-A06E-4FA7-AD0E-79784434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7CB-73BF-455D-984D-A17E56CB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674-D39E-4A6D-A2FF-228B269E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1C3-D837-4DC4-B895-431A4E8D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626-E638-4696-B780-D0B9DD0A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DEDA-0ACC-4906-B8EA-1BB56E25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D1B-AE4B-440E-8FA6-A1C8ADC6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F3680-71E4-41B5-8F60-153FDD8195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