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41040"/>
        <c:axId val="45870161"/>
      </c:barChart>
      <c:catAx>
        <c:axId val="42641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70161"/>
        <c:crosses val="autoZero"/>
        <c:auto val="1"/>
        <c:lblAlgn val="ctr"/>
        <c:lblOffset val="100"/>
        <c:noMultiLvlLbl val="0"/>
      </c:catAx>
      <c:valAx>
        <c:axId val="45870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41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38E-5F4E-49BC-A721-61E7E73A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140-A795-4B0A-B9A1-3C210FAC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F81-9EE7-48BF-A8F2-63A5C971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7D5-D6AB-4DAD-A77D-28C00193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277-99E0-4F38-8731-D1BB223A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93E-2526-486E-A67A-D554C385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619-F7D8-4424-8004-F404DD79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736-DBC7-4C89-ACEF-064EFD2B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567-B4C8-4288-965B-D47BDEF7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108-D502-4B6F-A03C-3B6BD81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92A-CDEA-445C-B963-485A92C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197-F376-4E47-B0CA-ADAB6B11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27F33-5F4A-451A-AF98-DE85C3EF18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