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155483-3066-40E9-B9EE-59DF864FF9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FC6540-BD67-49D4-AE46-7F6075F8A8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360DDD-306C-4755-8E82-4114A08E68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7079C5-A1AE-4F5F-9D4A-E212279D31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FEF9676-BCB1-4573-83A8-3D004C142C1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43B5E5-089F-4A39-88AD-E967C99039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9EC098-4C2A-4206-83C9-54E8A71666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7C10A3-D107-4CAF-B438-8AC579BA48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BA7F32-5545-42F1-9F12-8DA81E9B70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CF584B-BB60-48FA-8263-F770C09B06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9A33CE-4A90-43D2-BBAC-2C4BFFD1CE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8A09B9-84AB-4440-B617-72AE3258FF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119B00-5136-4DE4-98BB-0064F5F4B8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2AE9B1-C4C9-40E9-865F-39794EECDA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0D76A2-BA59-437B-92E7-25EC41759A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DFB84C1-90F0-4B73-97D1-B6E9981995A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A874BE7-9D59-45E5-ABC3-00630EF07A3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06F8F3-B1D7-452B-96EE-AD645BC7CE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948338-15D0-471B-9CAC-298567D854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FE8051-6F6C-4D8A-A423-3F358DF25E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7A0A05-E76A-42B6-9686-3220CB2DAF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F4126A-E8AA-4480-9B87-F31C8AA83F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159F63-F044-4B6F-A96D-1AE76AC865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8EAC97-DFB6-42AF-AFE0-5FFBE0B347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4F1D5F-E7BA-437A-8794-C9D16F71A19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8782D3-9440-40E1-B735-6F0EF37FA56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85B6B29-9962-4DB3-9365-B45DD77E4CB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00DDD6E-0A9C-455F-A668-64EF78EDAA0E}"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91BAC7-5BF2-4D31-A5EC-B9D256ACA1E3}"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D47559-8604-49D0-A50D-84473F734421}"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9A11B1-3E03-4EC0-BB19-EC131067E61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5DAEF6-DD95-4517-AE7A-809DD9B6DBF8}"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49FD23-CC90-4ADC-A978-CD232F6A08C9}"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F55052-58CD-4FE1-9AEB-D908D5015F10}"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FE910E-6151-4902-A86F-A900BA71B91D}"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0CC1B7-CED9-4D71-A3FE-0E4B63A4A8DE}"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705C3E-460B-4066-BA84-F0A3CDFAD996}"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8A5BA4-C44A-46A3-AD3E-C84A9611DBE2}"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1D798D-710D-4D88-BB54-B9072E8EF878}"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00D700-44AF-466C-9171-CFD47838CFA5}"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4742EB-F093-436A-B588-1BC579EA7D31}"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0D9DC7-9C10-46B9-A675-D6CDB444AE3F}"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F23EBA-6CF4-4BB0-9BE3-1832FEF85C44}"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8C0D88-1E49-4E8D-B963-AF113ED9EDEB}"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4AA67A-7AEE-4E9E-B6D6-D9229518EC5D}"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E62D6A-071A-4876-A4F4-B9DCE9C136CB}"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4B6853-E75A-40CE-8F4C-3BDDF7596A28}"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FE5260-33FA-4EF4-97D0-3A7FA146571E}"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1A6B50-9C0A-436E-80B4-F2D41D0F6F4A}"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BD4C35-DCBD-4E63-BE56-02060E403FCE}"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3E5A9F-B0C1-4241-AC46-618A25E3189D}"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B4DAAF-6AEE-44F3-8DD6-36C9D8088AB7}"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C752F6-04F7-4DBD-B652-B7713BD0ECA7}"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E210881-3746-4486-92DE-E58385FDB1F4}"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F17034-ED5F-4733-A0F6-A3F5F2E14550}"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179C0F-6AB5-4521-AD0F-57A96578BCC5}"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8E2C2F-ECF4-4966-8146-A5B1644E2136}"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2AFF5C-DA2D-4E58-9E65-F7EA0C59A4BC}"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10C6A9-C6CC-4B85-89BF-60579C47ED59}"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95B11C-ED6B-40EE-A39F-6D915E73D98F}"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E8F364-2C58-427D-A303-7AAE82668EEB}"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B8C68F-9DB7-451F-A6C0-745EFB97C584}"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9F883B-0F21-4F43-84AE-771CEFF94268}"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F8F5E4-F849-4ED2-B416-069F4B83987C}"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B4A2EA-2F0A-4615-9681-79F024F2D65A}"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61F3CD-99D1-4ABD-BB1B-EF52D2BEB1A9}"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C7488E-2195-4133-8B81-AAE5F9E0D4A5}"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A79AA3-6DC4-47F6-8094-88355726945C}"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0A0046-B4ED-4484-8FE5-78C143B9FC52}"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B01B53-456A-4D5A-9D74-515E36EFABD2}"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3C925F-DF08-4F76-BCA3-50BE17CD9E63}"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B07EBA-112C-462D-9525-7D7710D5BDEE}"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2A2D0E-597D-4D12-ADEF-8B9DA78C1E3A}"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9F9F0B-03FB-46D5-A8A6-162DD72587D2}"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2D8A4E7-015A-44A0-9C9E-1217744CA082}"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A3CAF3-26C7-4998-88B8-83A4CE700568}"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F05B27-8628-48C0-A5A9-697A44AAC20D}"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ED851C3-17A7-4527-94D6-942DE60F5AB5}"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86302F-6B61-42C7-9D55-6C48182706CC}"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7DD1BB-4576-4BF9-B979-69E0DC143060}"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6B412D-C0D2-4EF4-9E3B-61BBF1839A96}"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0C8341-60A1-4F36-A4C9-09C5FB249DB7}"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C63DAF-DBDD-41A5-BD72-02BA727DA66A}"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9A50A9-41C3-4391-B7EF-5F2979DE5507}"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AF7C40-94A7-4545-AA7F-2A7B9A87FCCE}"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260C327-6A41-4D91-9AB0-AB66D47A1F22}"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7DC7AD-C6E9-41D5-93A1-8407819E4784}"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12A890-EBA0-43CB-B2FF-3FF7F83957FA}"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C3722F-23C6-4463-A2D5-DDC7AFF106F4}"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F36407-1593-4A94-8712-2C08B06992B7}"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7E9BF1-7443-4762-96C1-F8F141158541}"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3700BB3-928E-406D-A4B3-BD766B8EEF5C}"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B66374-35EB-4679-A20B-3C291C080739}"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D5D75B-B833-42B8-BBCC-3A4EDAB286D1}"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978438-CF1D-4D95-B5B6-32967F9AE3F0}"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4D1FF4-B8C4-49DC-9887-C9C2FFF7B48F}"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784D85D-8D1A-4E0B-A746-DD9CE2D8FE63}"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921964-A6FB-442C-BB4F-F9B879A622BE}"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1D6876-7FE9-4C60-BD98-68E4E28F7233}"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ECF872-9C97-45FA-820D-3436BE8F3CCE}"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5CB836-CA02-423B-B9ED-23B399F78E77}"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90E8D2-67C0-4C0F-A536-BC80FAF0111B}"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7D3513-A082-45D6-AA92-01E3A74F5DB5}"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8547FDF-D5F3-4A67-B61E-BB8C35F2EA38}"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A8F5EF-0237-4851-9E92-53348C88C54C}"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0DD979-68F4-49C9-9259-984132728B0F}"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6E1B7C-876C-42C0-8E79-72A64653C8DC}"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F3F1933-9CE8-40E9-8D4D-221C76DA274A}"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5655BA-D937-4863-B49A-8C896416EC8F}"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8352A67-A83B-4E71-92F7-045B4CEDC8C1}"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DD3F4D-409B-45FB-99C4-C4D61BFCD2E0}"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53C9CB-2A10-4178-9114-A6FB2B7DEBED}"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8B0871-CCAF-4E0F-A7D1-9507D2D030DC}"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995B11-98EF-46A2-8403-36A2B5404744}"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0CE6ED-1B60-4D1B-8803-0FCF1F81DDA3}"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740DE5-D186-4E61-B744-65D2CB182F1F}"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FC0BD3-8435-4FEA-B944-A5F18D02F1D2}"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322C2E-E5EA-4F6F-A50E-22A866C62166}"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5B61CC-6BBB-482E-9A66-543F042C1054}"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933EF6-90D2-4B92-AB39-34C54A516AA0}"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030C9D-2759-4295-A734-927566FEC542}"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D7030C-727E-4403-9B5D-C5167CEA67D9}"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35E2BF-0024-43E3-A9B4-5A242066C76E}"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EA6774-F44D-4D91-AAF6-70903D9B9EB1}"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5C2CDE-CE1A-419A-98EE-564ED9CD66C1}"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8E6538E-E3EC-4820-A833-A434F4832270}"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AEBDAD-2969-4C99-A315-E0B2D626746C}"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3435E1-5519-4B52-B934-95D6CC592DE1}"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D781AE-A564-4BC0-864B-8128D245F298}"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E4FA2B-88A9-48B8-B7F6-9C2D56CFD8B6}"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4F5702-FF61-43B6-9BDE-888CC78D07D3}"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C2368E-FF8C-4CF3-8E7E-20200CF36123}"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E4ECF5-0F56-4FE8-A153-AC5DAAC39E68}"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3F4919-E10A-406E-BDDE-15782C35EB28}"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BD6C98-ABCF-47CB-A3B1-20D20A0406D9}"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71896F-498A-4510-BB1B-7934B1703883}"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B2DF0D-0B36-42CD-A611-88A71E8853C2}"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C9F3E6-93E9-4CA4-8F2E-6F047AB1467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C210D2-0948-4096-B64A-6AFB257566B7}"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02A344-A44F-49FA-9E26-9AD489B753CE}"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93386C-D60B-40A9-A4C2-37EE83DB5697}"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D3AC08-533E-4593-82AB-49EC5F4A0429}"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1B568F-6D3D-4441-92D5-9E1DFE8C5381}"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440D0C-7081-4E6B-A81A-296C23AA5CA6}"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4B571E-70C6-455D-9B8A-88642C138BD6}"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D12E67-391F-465F-8153-4599EA57C642}"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5B8B39-6358-4E0E-9D8E-A5A4E0F2EF25}"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E72137-038C-45AA-8B8C-73A2612938A3}"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AB7ABA-0BCC-4810-ADE6-A6DE73522266}"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502477-6B75-43EB-A313-CF94417A4A32}"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D86ED1-2B94-4F02-B4CB-25A74520DF8D}"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F213A5-3557-4390-9F94-2CF98DEF01EC}"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F11238-131D-46AB-B31C-E84EA3DCDE22}"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F80D1E0-3161-4C0A-A2C8-BDABB67F00FE}"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031441-4DFF-43FA-ABB0-10567410414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2303FD-8CA7-46E2-8FEC-0AEE854385D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5DC265-7B3C-464D-89E0-88F3E41102B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46DF97-3AB4-40BB-9250-3848C90C88D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A31EE3-56B4-4C13-BA5D-51CE8F9282C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521AD5-84E5-4E22-A721-46E854764E0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4514C12-3ED5-4984-A8A0-1EE618FF7D5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2FF012-FBC5-47D2-9B45-39D8E9EF528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577DD1-5718-4A91-9ACD-768B35F6D78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287BA8-42ED-425F-B63C-BC0D3C1E81C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C35323-7C2A-4C2E-9303-C2DB899DC5F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C4FF95-C545-453D-9D04-02632612F31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0AB4E2-CFC6-4C4E-A963-C4FB7C8292D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B728DA-F83F-4A69-8CED-B63E596772E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EFB949-7CB3-4BC4-90D4-24F5B567353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D4E82C-8F42-413E-BC6C-94A6C066B65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90E2ED-0EBA-4740-9082-C979EDC9952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B2BE7A-27D6-42A7-9598-D4250BDDD5B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98C3DC-6BE1-4FC9-855C-B081CDB813B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473DFD-CD42-4F3B-A2C8-0D6EAFC45B6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D9A0B8-A760-4F40-AFD9-5BB31B77C59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E68702-F4FD-4F51-940D-2C73DD7E736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CE75F0-8EFD-46BE-9876-2ADE4BB30A3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BBAB14-934C-40FF-B630-2C905B844E3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1C0B05-8A69-4F1A-B782-D2D9863D202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5A2F94-C8E2-476D-ADBF-D7042B33160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8ECCF6-BFC1-4E65-B7BD-EFC1AE1CD77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987730-1309-4140-9BFF-3E7D2DF3386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3EAA30-7B43-4A55-9426-ADC554D80E8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E4D001-3FB1-4CF0-A7B6-A65174B5B54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D0DA89-16AC-4162-8EBB-46616FF6BC2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9518A7-DF96-4625-A9CA-64F18C74D85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3817A5-09C4-4B31-8EB8-4E753B7FB55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97E9F0-9396-4CAB-AEE8-EBE21729365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266E39-052A-40B7-A229-782032A00C4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FCA29A-9BB6-432A-9751-5A7BAE3CEB9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16DEC1-9C9C-4F76-85E2-196D924511B7}"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DC2A3F-C28A-447D-BC77-BD222B08DF6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5F4C36-DE8B-49A9-8BA2-202F22FBEB25}"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31E451-302D-4C8C-9C6C-5882C5B31FB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6E3078-2162-4129-B8B4-935D1ED5AD8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4CF7CC-3741-458C-9455-28CF1A62542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D5352E-0235-478F-9322-89220ACF27C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A2844C-FE39-430B-99B5-030F3D011F0D}"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1BCA6A-0497-4CD4-A7F6-B6C15BCD05D8}"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E1F990-5D0C-4C33-9B80-EE8FDE0CB7F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57C563-2914-4E08-A943-217348DB23C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A2E9F63-A129-4275-8033-7AF455D026D1}"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1FF11D-FD77-48E2-AD82-41F72CF98646}"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B2E257-C3BC-41FF-8D59-689B61C603D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72D502-678A-4504-82E5-7BC83F9F203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579896-BF32-465C-9DF4-FA5DE3F7304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4744A1-DE2D-497F-9BE7-F197720C937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C42728-377B-460F-9473-D3E896B44A0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9C075C-EB14-440F-8BCE-DA7CE045D41B}"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C6DDD3-ABA2-4C54-8E73-1992A897B2A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0DAE444-AE8C-4152-BD04-A74AA1F228A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9B3248-7FBA-4DA8-8B4A-0751BC61ACC7}"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D6521C-1768-4997-8114-11CB26327D76}"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21043C-91D4-4838-8572-8BA1DEDB0D10}"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F9AF06-30EE-41BC-8A06-DEDE25738629}"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AFD037-7205-43D4-AA7B-64BC51D40AC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83109F-F1BB-4246-9681-8576FA8DF8CD}"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587D6C-10C2-4E86-861F-44213A4194AE}"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DBF7CB-B4CB-4909-9763-65278C0AE85B}"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8050E9-FBA5-469E-A604-22F361989278}"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55D741-B97B-41AE-94E4-A029DFF63DFB}"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AF6E9A-D3D9-4C38-A1CD-A678AF1BB24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B3BE42-EC65-4EFB-B475-61E83FE8226B}"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6807E8-C305-43D9-A49A-8BFA3E17E66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8529F5-B2A7-4628-9121-4382027DB43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870DD03-2224-4B0C-BCCC-554CE6791ABD}"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EEECC3-1900-4252-BCA7-FD4AB7AEF65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FA2FA0-C66E-4B85-A434-5A6652B581F5}"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7C11F7-D06F-4D17-B33C-14A9CF85475F}"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412BAA-C765-4EAE-9143-695752E8AA51}"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EF2705-B3E8-4B34-B6A8-5B3B16F4D7EA}"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491813-6DE0-4CAF-8D7D-6877F91872CB}"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E284B4-D1E9-4BE9-B3A1-CB635AFCA8A7}"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3A66A1-6822-403A-86C7-7C8D40FC8854}"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B9765A-A352-432D-9FAC-62B94C5C829F}"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EBEAA5-E99A-4465-9DBC-A88B9718CD4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6AEFBF-FB96-4D2C-89B6-A29544A1FD50}"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598D3B-B744-4379-BF69-83712C620E09}"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FCB0F1-45DF-4ED2-996C-023CBB4F4481}"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