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212465"/>
        <c:axId val="4600137"/>
      </c:barChart>
      <c:catAx>
        <c:axId val="432124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0137"/>
        <c:crosses val="autoZero"/>
        <c:auto val="1"/>
        <c:lblAlgn val="ctr"/>
        <c:lblOffset val="100"/>
        <c:noMultiLvlLbl val="0"/>
      </c:catAx>
      <c:valAx>
        <c:axId val="46001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124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1A44-00EC-48A8-8287-F7CD2C23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90E7-11B5-4752-9F69-DEBD653F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24BD-7614-404A-BE62-EDDE2C2B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CB8A-C260-4C53-AA33-C2B0F700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8830-A3CE-4DF5-91BD-265BE027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B47C-8DEE-48BF-8030-70FC9838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A615-238C-4F06-BD81-4DFFBF45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BDD4-5E51-4E22-9152-42B2643B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D65E-DF1E-46DD-B457-C4D18FE9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BCE7-2ECE-4EEE-A8B8-B36C48B6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C995-A76A-429E-BE07-D8A271E4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0BBE-1FCB-433C-8B05-38F70BCA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E84D3-7E18-4861-B4E4-F86D615A5C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