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69932"/>
        <c:axId val="63264603"/>
      </c:barChart>
      <c:catAx>
        <c:axId val="98569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4603"/>
        <c:crosses val="autoZero"/>
        <c:auto val="1"/>
        <c:lblAlgn val="ctr"/>
        <c:lblOffset val="100"/>
        <c:noMultiLvlLbl val="0"/>
      </c:catAx>
      <c:valAx>
        <c:axId val="63264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9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A23-D776-4C59-B0F9-9381BBD3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38E-D3C5-49DD-8DE0-4291431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622-A8F2-4ED6-9651-49B9676E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790-2EA0-41B3-82CC-AA6DE1C7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A5F-06D4-4F0F-9749-2E76E387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440-5660-460D-8218-90757FE6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C23-ECCF-42AF-8176-B87976D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4AE-7674-42E6-A927-50A3F57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387-32EC-4367-A740-1D20D49F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1CC-741F-4AC0-83F7-94A7CDF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417-7DD4-44E6-9F2A-2687F7C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BE7-6B83-409B-999B-6D2133F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EC703-5D96-497D-BE92-49A0DB24C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