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B48EA21-BF5D-4E87-99EE-53FE0632955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302C465-65C7-4395-A965-F30578BC0B3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D627234-0240-467E-B8FF-1CC4A2A37BB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F208A07-4A6A-4461-9D00-F034CFFBBEA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57B0816-9F06-445F-8123-7E54A04717B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71EC6B3-2DFC-4592-A969-2812ABDA881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5C0F635-32A5-4AED-AC0B-94556F99A07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8D42F65-C565-427F-BFF4-6C51E7DAD56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2671B57-7CA0-4561-AFD6-6F03336508B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EF99C35-83F8-42C7-BC68-C2F13C48097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43B06F7-E811-4E3A-82F1-8AC81306DAC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E58A5E1-1136-4D65-B96F-40C8DA2EAC6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547FE46-94B5-471D-BA9F-DE8D993786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3A3361-4965-407C-A1DD-67D7EFE446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55DF753-59C5-4278-8909-F1CF3A6AE7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4D0D5A4-1A51-416F-A246-DA9FCEDF2B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D571454-1E33-4CF9-980C-4E6760B3AE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A9A48F4-6081-4AE6-B3E7-88DE532C9E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5E8C5FB-4D9E-4E7E-BC2D-16FED06093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2BD3B1B-465C-4212-83D1-3969A49DE25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5428DD7-B724-45CC-93BA-91ED494F54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FC6F49B-B4A7-43C1-877C-CCC0D75596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DE7A523-1975-4D1E-9A67-94942E28FA7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C59196-7799-4701-9A91-01C755372F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98571CB-2CD5-4990-B61C-4490DA8974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123A566-E937-4645-8017-73689CB1E9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0DD8242-F180-4C8D-B170-116F617CAD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422B1D4-BB0F-4170-8402-9FCCE9C9E21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6E568A8-8453-4853-9890-A5A3D38860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0D57AD-BC57-417E-9DA9-0A443F4CF6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DE02FD-D73A-4CB3-B074-54BE1FF435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144C6C-1F6E-4DEC-9928-0658E0D823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70EB2D-D12E-4F18-B047-32D0B3E2E1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E3846D-3F74-4803-A52A-8298DFC990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6BC032-217E-43F0-966C-173283F83F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5F64BB-372E-4BD2-B44B-AD90E93FFB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329E9-DBB9-4E73-BA30-CECBE06D8346}"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B636E-61EC-4FAE-A8D5-42CBA509517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7CF33C-DFE9-41F6-9F61-3254C55C43BF}"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B82294-0489-4FDE-96CB-379355EFBEB0}"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ECFE15-CA80-4F11-BC75-3A10D6099F6B}"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91822A-053A-499A-B5D1-E9FC09DF615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4BA1951-AFB7-4420-9B1D-BC966E3DE6F5}"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781528-DAB8-45A0-9E3B-661DF69F5A9D}"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54F1DC9-36A6-4F29-985F-B9EA6518F437}"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EFA6B42-6E6E-451D-95F2-1A2E8337634E}"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94DD73C-779E-47F7-810A-C4B3B424527A}"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61C0C9-7B24-4D1A-8478-EBF8C15094A2}"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47E3D18-1F7F-488D-A070-5F7C9EBC1756}"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375EFD33-A432-44F1-8B18-7DC72B35FB7C}"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6032DDE-EBC6-4BEB-9C24-FC2039B7D086}"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9FAEDE1-7FF1-41CB-BD97-1D394450D8D5}"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352D767-D08B-4A12-9AE0-9E88399EDE3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48158F-D7B3-4A8E-8FF3-CD886B7BB486}"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C99F4EA-7D82-49C7-ABF5-E1775B05BC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9245865-EC60-47C3-ABAC-66864CDC34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A5A33C-7D8C-4DEA-BBF0-A4302995AC17}"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626B03-47CA-4994-8FFD-382840A76D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3E358D-327E-450F-87CC-9AE18329D2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8BC6139-A747-4928-8091-4D0CB0990B87}"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3E6A3D-8423-4720-BBB3-4370859367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F7B407-01AD-4324-ABAD-E0462F89D6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25C720-89D2-4373-A883-3022B35124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1CBAB11-0D2D-498F-8D3D-83CE72C1C3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19CF22D-90DB-45A4-9781-AB86D9F785D7}"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6295FCA-5340-4556-AF1A-E90424E245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5366CB-F753-4C28-8D5F-E6C3492E1E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ACC913F-A7D6-474E-82BC-C07CC109F4E9}"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93BE2CA-4AA8-4E2D-9930-468A020461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410896-B946-46B0-9596-C983233820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05D752-A250-4AEE-85F7-2664E07806A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9AAB4C9-E026-49CA-8AF2-5212429902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2D6AABE-F190-4959-81FB-E05353A7C89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9C5005-35E7-40F7-B694-81F34BB397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608D402-48C1-4583-96A3-DF800013190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90B75D0-FD1C-4A05-A839-380527963DA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0C262B9-A839-42A6-9C77-C9826406F27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BE10359-387C-4ACE-B346-9CCBEDD8847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2319123-1E38-4F01-9879-776CAFC12F5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131C67-C61E-48F6-B620-1C302165509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6CA47E-C0E1-47ED-87CB-415B6046278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0D80BA9-A008-4F72-B7BD-E53F5A8B1DD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9F1441-82BF-49AE-B650-A5F451D76CF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9C2DFB3-DFE9-425F-8C5F-BCE56E6A53A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156B93B-4D33-4807-A4A6-1D3B31C9FFE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36574E6-F83E-4634-8A25-BBFD644131E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CC71E89-0F3E-45BC-ABEC-5832F8ADF45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33DFF26-8A45-4A79-BB1F-FE91665BF48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95AA0AD-A670-4839-97E9-29E97B61766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17FB806-C1CE-42F3-8E48-D2445712496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24BCE5-B3AD-4B46-A4C2-49656338FF5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2A126A6-07C1-4CB2-B113-D1966A75B69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9F2DDE1-7D1B-4297-9220-51C6045DF73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6C37A28-181D-4D50-96CF-0838F965D8E9}"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225503-78BB-4114-8664-A14B33814C0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81258EA-457D-4EE7-8BF8-84485E72A016}"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6DC948-9B50-4B34-8CF4-8BC6AB744C1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2DC061F-DFDE-4BFF-B2FC-46E557458AE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E5D87C8-D1E8-4401-A467-7D733C0651D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64F301-2139-4BC8-8D5C-70DA9FC7CF34}"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52144C1-3C4A-479D-A965-8B87620D2A7D}"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78529DA-39DF-4A9B-A6B8-18F0919215FF}"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5FB3EC-E568-47C4-AD56-C30B22105AD1}"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99A941-E288-4769-A001-5BA5539B8D0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B1148F4-7CFE-4030-8A6F-4D6E8E25B0E1}"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81EEC7B-2C98-4729-BD25-07583498D36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52C776-89E1-4F77-8023-8FCD68D79DE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CB0D8CB-BDE1-424F-B99F-59EEEC04E19F}"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62E8FC-4624-4A04-9D98-39161AA9F646}"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D42509-C61F-4A1D-BC9F-5D8CCEC9D0F4}"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95F9DE-2F80-48E6-A75D-F2E0C5126E0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01D3E8-CD67-4BF9-A0B0-A3D4DE7345BD}"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A4614A-C60C-4D59-9A27-B48268034C3F}"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A3F6EAC-7F3A-4E04-8FD0-5461B3D93FB9}"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1127420-421C-4E6F-8508-9EF0E3890B3B}"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3ECF6B-7C16-46B6-8325-12EE166B2F6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75CC9BE-4F55-4F2F-9575-9FBF81DC0A49}"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6A8334D-5206-4E5E-A34B-822230FF412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9D4E27-BAF6-42E6-BF09-4453C9DB50A2}"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24C547-D950-4AEA-9BBF-9005738AA8EA}"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BE1DC0-8971-45AB-99EE-D787CA546823}"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BC2389-A266-43BC-8B3E-55FFE8652CE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D4D0D2-5333-49C3-B88C-4F1A8C49D9F7}"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E05650-387F-46C3-96F4-ABDF60088733}"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90D00B6-D3C6-4801-BF2A-A058E87EE6BF}"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7FC3F9C-1542-423C-8D84-9FD3B51B70BE}"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7580D4-9316-498E-B599-511E3782D9BA}"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753505-C516-4847-9B8A-B6E28108BEF3}"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86948E-1333-43BC-819D-F88BDEB32F83}"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1D0E9A7-B75D-4C9D-8CE4-FACB790913F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C8265B6-2B2B-4588-A60B-869BA017B844}"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092D96-9EA1-49CD-9F9C-F320B8129802}"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85B9FEA-974F-4FE0-9614-EB1900CAD91A}"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29B102-AB39-4261-B4FC-A260FDCB7F73}"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E481C24-9408-42A6-8083-3C7975B96DB0}"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9644936A-2EDD-42E4-8042-84F45F2FAC12}"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BB7970-341D-4573-ABE1-9BA58BAE1538}"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161E44A-EB00-4B8A-92E2-2D06D018FF01}"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FEC0F8-E6D0-4A77-A7E5-951EF41B94E9}"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0A8BFE-B60F-485B-B5DE-33B29E0C1DB0}"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302C64-D017-4030-8545-C232F5920C69}"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0621DC-7601-45DA-B4CA-AD8A75CC3A46}"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CF9C42-0309-45FB-B353-606E5A6C82AF}"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04EE7C-34B3-4AA1-A20A-E6A9D7ADD1B4}"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CD637C-197D-4CD1-8FF7-2D298DC9D5A0}"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673C6F-B92F-4CCD-B570-CD5808AABEBA}"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795D3A-375F-46D8-B98F-5CCD84D25CA6}"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99E956-4F37-475A-9EAF-745F78C48D40}"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571713-2C22-42C6-916B-9983FB8202CA}"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