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763327"/>
        <c:axId val="60468643"/>
      </c:barChart>
      <c:catAx>
        <c:axId val="77763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68643"/>
        <c:crosses val="autoZero"/>
        <c:auto val="1"/>
        <c:lblAlgn val="ctr"/>
        <c:lblOffset val="100"/>
        <c:noMultiLvlLbl val="0"/>
      </c:catAx>
      <c:valAx>
        <c:axId val="604686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63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962-851D-49EA-ADD9-3590AB31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D1A8-005F-4BA0-93A0-67B68924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C74C-1F9D-4D1C-A557-EE301F0C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AE4-84C2-4B12-95F0-4CC44B5D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00C-39D9-47EE-80E8-CB05EA47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0BA-D10E-4222-9947-C642047D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87B-AA7A-45A5-BE38-9E06BDDE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ACAC-EA6F-4DA0-8CE6-5EC51816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5363-7E87-481B-A732-C9EABFCA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98A1-8E8F-4F21-B024-D2C8B019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FCCD-87D7-40F0-95E2-B7E5D68C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D9DC-2B09-4A69-8D38-DD9EF86A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AD816-5B9A-4086-A80D-C230132B0F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