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0637"/>
        <c:axId val="56705565"/>
      </c:barChart>
      <c:catAx>
        <c:axId val="1640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05565"/>
        <c:crosses val="autoZero"/>
        <c:auto val="1"/>
        <c:lblAlgn val="ctr"/>
        <c:lblOffset val="100"/>
        <c:noMultiLvlLbl val="0"/>
      </c:catAx>
      <c:valAx>
        <c:axId val="56705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EC6-6F72-4D65-9AE2-6A411A99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484-8C0E-468C-A226-8323C516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C06-F1AC-44E0-90D7-10717ACE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1E7-5852-475A-B31F-DEE9F3CE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C51-ACC7-471C-A617-7BFB52F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CCF-3317-435F-9CC6-3A3C3BD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1A3-96B1-4DD2-9929-820B3DBA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791-6ED8-4433-A955-18F9322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210-F003-4EE7-8376-E2E4DBD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58B-B64C-4CBC-A163-BC041911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4AA-1886-4B3B-9AB7-55910E0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CFB-AFD8-4370-9F67-34263F2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3486B-1C1D-4989-879F-BB03C7860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