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58004"/>
        <c:axId val="80211602"/>
      </c:barChart>
      <c:catAx>
        <c:axId val="32258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11602"/>
        <c:crosses val="autoZero"/>
        <c:auto val="1"/>
        <c:lblAlgn val="ctr"/>
        <c:lblOffset val="100"/>
        <c:noMultiLvlLbl val="0"/>
      </c:catAx>
      <c:valAx>
        <c:axId val="80211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58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8BE-39DD-411D-9001-0B7A63FC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428-60C1-47B8-A5F1-70D92C04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543-746F-4E48-90F7-71DAAFC3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C85-8FEB-48E8-AB3B-C952D5D2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079-F525-4FD0-A061-A9DFB18D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950-2A6A-4C1F-9FE4-99C345E4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E0B-C3AA-40E4-BAE7-9428B992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B1C-DF87-4531-9249-6290E821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CBF-CF7A-414C-9BEB-24B74CC1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E68-2427-43B7-B0FF-AA851CE3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FCC-2DD1-44F5-BAF7-CEBF598A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EA7-86C0-44C8-B1FE-4EBA0F68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453C2-BF72-42DB-8822-08DABF4FBD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