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73042"/>
        <c:axId val="61407450"/>
      </c:barChart>
      <c:catAx>
        <c:axId val="45273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07450"/>
        <c:crosses val="autoZero"/>
        <c:auto val="1"/>
        <c:lblAlgn val="ctr"/>
        <c:lblOffset val="100"/>
        <c:noMultiLvlLbl val="0"/>
      </c:catAx>
      <c:valAx>
        <c:axId val="61407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73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94E-9306-4879-AA60-18F85352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12A-C207-47B9-8E20-82511DA3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1F5-EFA5-4372-AFCE-5F3732C3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31D-F2AA-43CC-8E3A-4A248864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E26-1FAD-400F-B21B-2F8787BE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FCE-7D1F-4A19-AE8C-D0CDF51F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413-784C-4F60-9091-1A68F715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DD6-49FF-45F7-B893-76F6DE2F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EE2-A912-4ECE-ABCB-AE02B515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744-F474-491F-8EDC-EC48EA11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B74-4EFE-4D6A-856F-005D318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D5C-2731-4B96-AA16-C1C1D90D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EBCDD-4E82-4D38-B89B-684C73F1A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