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378472"/>
        <c:axId val="77266118"/>
      </c:barChart>
      <c:catAx>
        <c:axId val="643784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266118"/>
        <c:crosses val="autoZero"/>
        <c:auto val="1"/>
        <c:lblAlgn val="ctr"/>
        <c:lblOffset val="100"/>
        <c:noMultiLvlLbl val="0"/>
      </c:catAx>
      <c:valAx>
        <c:axId val="772661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3784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D30E-5E70-406B-ADFF-30BFEC0AA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B708-CC7F-4FBF-8EC5-F7BBEFE8D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FFEE-9524-4302-998B-A02CA2B79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349D-E283-4D9F-841E-1F441CBEC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DFD8-DA2A-4560-95FD-6F3E5CF11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4E51-19AC-4119-9BCE-172F07DE0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4526-96F2-4F44-AD3C-8D93E4E26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4E42-0389-4B23-B90F-B7F8F5852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332C-0C93-4341-9905-8EAA54742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3BED-A8F5-442B-BE98-A46C7696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6FFA-7483-4E29-BBD3-ACFADAE7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8D54-9448-4DCB-8990-C5238095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D0A6A1-F0FD-4F8E-8286-2185B54B284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