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59466"/>
        <c:axId val="44838477"/>
      </c:barChart>
      <c:catAx>
        <c:axId val="94959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38477"/>
        <c:crosses val="autoZero"/>
        <c:auto val="1"/>
        <c:lblAlgn val="ctr"/>
        <c:lblOffset val="100"/>
        <c:noMultiLvlLbl val="0"/>
      </c:catAx>
      <c:valAx>
        <c:axId val="44838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59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01E-98A8-41AE-A665-E44097E4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E06-AED6-4E87-B01C-B205798C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834-F0BF-4B40-8E07-ED7798E5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ED1-50E1-450E-9588-D30B32A9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FCD-66AC-4095-82C1-C6576287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E98-B9F7-4C50-A6AA-B1C7A95A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271-B68F-4352-BE0A-534BD18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3D2-9CBC-495C-8884-D7BC1AC2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2C3-ADB8-4382-AA14-3948B7E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664-DABA-4BB1-A64A-A13B7086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0A7-3C71-4FB4-AE78-A10D9A4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B74-2FA8-436A-924A-CF29BDD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17E97-EB82-426F-BE70-B38F659DC4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