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89437"/>
        <c:axId val="60209582"/>
      </c:barChart>
      <c:catAx>
        <c:axId val="92989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9582"/>
        <c:crosses val="autoZero"/>
        <c:auto val="1"/>
        <c:lblAlgn val="ctr"/>
        <c:lblOffset val="100"/>
        <c:noMultiLvlLbl val="0"/>
      </c:catAx>
      <c:valAx>
        <c:axId val="60209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9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9A0-0BA6-4BDD-80F6-5C350713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45B-1225-4ADD-8E21-7107255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B51-4A3B-465F-B616-C2A76FE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A58-80D6-4FA5-91E4-DEE31AB3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E77-5A60-4C3F-96F3-6A9E9A8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BCC-E8ED-4E37-8BDF-ED45F0F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8B8-5BFB-4415-8C94-F017A11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8AA-2D32-42E2-B874-A17E8DCF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C88-88FE-4BF8-95F6-9B14B0DC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E3A-AB6A-4765-A66D-A8D7ADF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5AA-49FA-48FF-A2F1-22AE97C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0EF-B8A7-4BAC-B537-FE52A6C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C318C-964D-452D-B6C2-66D1EDF4FC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